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DD0F-B219-4840-A47D-AE79C334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5785-43A8-4014-AE1F-8F43A475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6350-4B24-4021-BFED-30DDC790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7135-A282-4BD1-8F8C-006F3F330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E292-2B47-4A7E-A9F5-0A305188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A9CF-1FF3-43AD-A40F-7E116BE2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EBD4-C071-4D1B-9782-06E0D07F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D2E0-95CB-42A0-B00F-5F6B73D9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B682-E035-44A8-951E-B90A3B86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B84-4609-4E36-B229-316DA138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62AB-E8E5-4673-B674-7462E2D3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2F5C-CCEE-4867-838B-25638366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D383-2D50-4472-A402-B6168B751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2-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371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gen = located o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 left of the periodic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17524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IME OUT!!! You said metals wer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n the left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22860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, but it belongs ther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because electrons are arranged by atomic # (# of protons) and it has 1 valence electron like others in Group 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35053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is elemen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cts differently than all other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40384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ence Electrons = electrons tha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re in the outer shell of the atom (eleme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4800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uter shell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is last energ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y are valence electrons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14479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because they ar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what allows chemical reactions to take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236232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lements in a group shar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imilar chemical properties because they have the same # of valenc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2004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ropertie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ot the same because the valence electrons not in the same shell/energy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3962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4495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1A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lkali met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ll 1A elements have 1 valence e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lkali metals hav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1 valence elec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295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very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re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17524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ound only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in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2209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st familiar compound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is salt (Na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895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2A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lkaline earth metals (2 valence e- for entire 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352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2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lance 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3886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etals harder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an those in group 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43434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gnesium and calcium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re essential to biological life as well as human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3A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Boron Fami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1371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3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lenc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1828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st familiar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is Alumi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22860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bundan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etal in earth’s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2819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4A = Carbon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32767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4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lenc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37339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de up of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onmetals, two metalloids, and 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4267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arbon most famil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472428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for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human life, because most of the compounds include car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ilico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ext most familiar in carbon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14479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st abundan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lement in earth’s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19810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17524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5A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itrogen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2209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5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lenc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2666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ntains metals,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onmetals, and metall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3124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used i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fertiliz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3657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ssential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o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4191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itroge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ost famil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4648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6A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xygen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51055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6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lenc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xygen most abundan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lement in earth’s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1371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zone another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form of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1752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de up of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onmetals and metall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2133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7A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Halo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24382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7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lenc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2819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lourine and chlorin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ost famili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32004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8A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oble 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35812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8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lenc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40384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 odor and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o re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52578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eon mos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famil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44956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y no reactivity? Becaus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 outer shell is full=8 electrons, meaning it doesn’t lose or gain to be s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15:07:26Z</dcterms:created>
  <dc:creator>Farwell Area Schools</dc:creator>
  <dc:description/>
  <dc:language>en-US</dc:language>
  <cp:lastModifiedBy>Farwell Area Schools</cp:lastModifiedBy>
  <dcterms:modified xsi:type="dcterms:W3CDTF">2009-01-06T19:59:52Z</dcterms:modified>
  <cp:revision>17</cp:revision>
  <dc:subject/>
  <dc:title>Note Guide 5-3 </dc:title>
</cp:coreProperties>
</file>